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106-41F3-462A-A2D9-BE01018D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ACF-C132-4436-ABA9-50C240A9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EF8-9D71-4CB2-9729-19130E5F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0A5-0D14-4A06-A58F-96EA8611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A12-AC37-4771-B5C5-A07D511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DC8-1C3B-4CCC-A805-D50D64AD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7BF-7330-46AD-9BBC-8AB34DE8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7B6-539E-4A37-9C68-582DC8D2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8A0-7D4B-4543-969C-AB27DCA3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937-4EBD-4802-9FCC-E470F1AC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4F3-3885-4CC9-AA27-534AA2A2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671-63CF-4E9A-827A-1D0EADF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BE23-56D7-422C-AAF4-1B374B322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Η ΙΣΤΟΡΙΑ ΤΟΥ GRAFFI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</a:rPr>
              <a:t>4 στοιχεια(χιπ-χοπ)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ρέικ ντανς(χορό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Dj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κράφιτ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63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ΝΟΜΟΘΕΣΙΑ - ΝΟΜΙΜΟΤΗΤΑ - ''ΤΕΧΝΗ Ή ΒΑΝΔΑΛΙΣΜΟΣ;'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 graffiti μπορεί να είναι είτε νόμιμα είτε παράνομα. Η επιλογή βρίσκεται καθαρά στα χέρια του καλλιτέχνη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</a:rPr>
              <a:t>Το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ffiti</a:t>
            </a: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</a:rPr>
              <a:t> στην Ελλάδ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graffiti εμφανίστηκε στην Ελλάδα γύρω στο 1986 αρχικά με πολύχρωμα σχέδια και μηνύματα πάνω στα βαγόνια του ηλεκτρικού και των τρένων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07</cp:lastModifiedBy>
  <dcterms:modified xsi:type="dcterms:W3CDTF">2013-01-21T10:21:5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